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F0183-746B-43AD-80A4-68194D13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221C9-7174-42C3-8F12-E5F8C18D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3200" y="4704840"/>
            <a:ext cx="53956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E0ED9-0FC4-49B1-A1E0-99ABA957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rtl="1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6777-002F-4994-BF6B-AAC71E9E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BCD1-91B2-4DBE-8E49-41430C11C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D570-6105-40BC-9EAD-63188E531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D021-D93C-47B4-B2F1-895FF3BC9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CC40-7E4E-4BF8-B622-68B6331140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F307-18A9-411C-BFF8-A5AB6C258E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B3C4-6703-4B7A-A0DC-B48696C71F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0E5D-ECCD-4F23-AEA3-A8268A5E54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6748-B3AE-4D33-9461-C7DAA002E1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238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7A76-3DEA-4F76-9ECF-DF1FA1203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6F24-B0FD-4E1C-A4E5-ABE4652C2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1589-710C-4484-9A0E-531838630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0E14-5494-4744-81DF-18A006F0C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C1DC-7321-4C20-A8D7-AAE825EEF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AEC8-E84E-41A6-A18F-1B15E19CB7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9BD7-0FDA-4A8C-8436-B405E55B7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24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560" y="144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24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7560" y="399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4C7D-305D-4369-BE86-C3E1463BE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2995-AECA-44FF-8C75-69869558F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EB3-095A-4636-A778-E8944D4CE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88E5-9A3A-4AE6-9261-260AFB53F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238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EC5A-CCCA-40DD-8F4A-B21690593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8675-4AC6-457B-A6E2-E98A7EAD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399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C484-2902-46D4-BFF0-19491C5DA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44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9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3F2B-1370-42E6-A0CF-B337C602E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A73-B5A1-439A-BB50-7E0C22F558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a0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4a0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59A3-9F88-4159-A751-CAD74D787294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põhikur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t-EE" sz="2800" spc="-1" strike="noStrike">
                <a:solidFill>
                  <a:srgbClr val="e84a09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ultiple Threads in an Applic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private run-time st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threads execute the same method, each will have its own copy of the local variables the methods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ll threads see the same dynamic memory (he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fferent threads can act on the same object and same static fields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ummariz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hreads can both use same global variables (shared between thre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the case for “proces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eating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ways to create our 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Thre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ubclassing 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 class and instantiating a new object of tha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Implementing 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Runnable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cas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should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tending 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ThreadExample extends Threa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ln(“Thread: ” +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void star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thread and makes it run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thod can be call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</a:rPr>
              <a:t>void ru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thread begins its life inside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void stop()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(deprec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is being ter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yiel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the currently executing thread object to temporarily pause and allow other thread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ow only threads of the same priority to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sleep(int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 m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sleep(int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 m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,int </a:t>
            </a:r>
            <a:r>
              <a:rPr b="1" i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n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ad sleep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lliseconds, pl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n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mplementing Runnab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RunnableExample implements Runnab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 = 1; i &lt;= 100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ln (“Runnable: ” +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 Runnable Objec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object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calls the Runnable object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hreads to run inside any object, regardless of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5105520"/>
            <a:ext cx="4114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– an apple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rting the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hreadsStar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argv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hreadExample ().star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hread(new RunnableExample ()).star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99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181480"/>
            <a:ext cx="4648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t us run an exampl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324480" y="2362320"/>
            <a:ext cx="914400" cy="19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15238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990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1430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600200"/>
            <a:ext cx="30456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1600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57400" y="17524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505320"/>
            <a:ext cx="30492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590920"/>
            <a:ext cx="30492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304920" cy="3045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133720"/>
            <a:ext cx="990720" cy="838080"/>
          </a:xfrm>
          <a:custGeom>
            <a:avLst/>
            <a:gdLst/>
            <a:ahLst/>
            <a:rect l="l" t="t" r="r" b="b"/>
            <a:pathLst>
              <a:path w="624" h="720">
                <a:moveTo>
                  <a:pt x="576" y="0"/>
                </a:moveTo>
                <a:cubicBezTo>
                  <a:pt x="600" y="204"/>
                  <a:pt x="624" y="408"/>
                  <a:pt x="528" y="528"/>
                </a:cubicBezTo>
                <a:cubicBezTo>
                  <a:pt x="432" y="648"/>
                  <a:pt x="216" y="684"/>
                  <a:pt x="0" y="72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124080"/>
            <a:ext cx="1600200" cy="622440"/>
          </a:xfrm>
          <a:custGeom>
            <a:avLst/>
            <a:gdLst/>
            <a:ahLst/>
            <a:rect l="l" t="t" r="r" b="b"/>
            <a:pathLst>
              <a:path w="1008" h="392">
                <a:moveTo>
                  <a:pt x="0" y="0"/>
                </a:moveTo>
                <a:cubicBezTo>
                  <a:pt x="132" y="140"/>
                  <a:pt x="264" y="280"/>
                  <a:pt x="432" y="336"/>
                </a:cubicBezTo>
                <a:cubicBezTo>
                  <a:pt x="600" y="392"/>
                  <a:pt x="804" y="364"/>
                  <a:pt x="1008" y="33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057400"/>
            <a:ext cx="761760" cy="914400"/>
          </a:xfrm>
          <a:custGeom>
            <a:avLst/>
            <a:gdLst/>
            <a:ahLst/>
            <a:rect l="l" t="t" r="r" b="b"/>
            <a:pathLst>
              <a:path w="456" h="672">
                <a:moveTo>
                  <a:pt x="456" y="672"/>
                </a:moveTo>
                <a:cubicBezTo>
                  <a:pt x="300" y="608"/>
                  <a:pt x="144" y="544"/>
                  <a:pt x="72" y="432"/>
                </a:cubicBezTo>
                <a:cubicBezTo>
                  <a:pt x="0" y="320"/>
                  <a:pt x="12" y="160"/>
                  <a:pt x="24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133720"/>
            <a:ext cx="3124080" cy="2400120"/>
          </a:xfrm>
          <a:custGeom>
            <a:avLst/>
            <a:gdLst/>
            <a:ahLst/>
            <a:rect l="l" t="t" r="r" b="b"/>
            <a:pathLst>
              <a:path w="2080" h="1656">
                <a:moveTo>
                  <a:pt x="2080" y="1296"/>
                </a:moveTo>
                <a:cubicBezTo>
                  <a:pt x="1344" y="1476"/>
                  <a:pt x="608" y="1656"/>
                  <a:pt x="304" y="1440"/>
                </a:cubicBezTo>
                <a:cubicBezTo>
                  <a:pt x="0" y="1224"/>
                  <a:pt x="128" y="612"/>
                  <a:pt x="256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86200"/>
            <a:ext cx="304920" cy="304920"/>
          </a:xfrm>
          <a:prstGeom prst="ellipse">
            <a:avLst/>
          </a:prstGeom>
          <a:solidFill>
            <a:srgbClr val="e84a09"/>
          </a:solidFill>
          <a:ln w="1908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9240" y="4387680"/>
            <a:ext cx="3388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/O operation comple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4520" y="1339920"/>
            <a:ext cx="960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r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6720" y="3124080"/>
            <a:ext cx="3946320" cy="1226160"/>
            <a:chOff x="396720" y="3124080"/>
            <a:chExt cx="3946320" cy="1226160"/>
          </a:xfrm>
        </p:grpSpPr>
        <p:sp>
          <p:nvSpPr>
            <p:cNvPr id="179" name=""/>
            <p:cNvSpPr/>
            <p:nvPr/>
          </p:nvSpPr>
          <p:spPr>
            <a:xfrm>
              <a:off x="396720" y="3719160"/>
              <a:ext cx="26798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Currently execu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threa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03480" y="3124080"/>
              <a:ext cx="2239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1320" y="1662120"/>
            <a:ext cx="2831760" cy="326880"/>
            <a:chOff x="5791320" y="1662120"/>
            <a:chExt cx="2831760" cy="326880"/>
          </a:xfrm>
        </p:grpSpPr>
        <p:sp>
          <p:nvSpPr>
            <p:cNvPr id="182" name=""/>
            <p:cNvSpPr/>
            <p:nvPr/>
          </p:nvSpPr>
          <p:spPr>
            <a:xfrm>
              <a:off x="6732720" y="1662120"/>
              <a:ext cx="189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Ready que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791320" y="1752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178440" y="4266720"/>
            <a:ext cx="5782320" cy="2063880"/>
            <a:chOff x="3178440" y="4266720"/>
            <a:chExt cx="5782320" cy="2063880"/>
          </a:xfrm>
        </p:grpSpPr>
        <p:sp>
          <p:nvSpPr>
            <p:cNvPr id="185" name=""/>
            <p:cNvSpPr/>
            <p:nvPr/>
          </p:nvSpPr>
          <p:spPr>
            <a:xfrm>
              <a:off x="3178440" y="5091120"/>
              <a:ext cx="5782320" cy="12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for I/O operation to be comple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to be notifi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Sleep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buClr>
                  <a:srgbClr val="000000"/>
                </a:buClr>
                <a:buSzPct val="7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Waiting to enter a synchronized s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181480" y="4266720"/>
              <a:ext cx="762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73640" y="2209680"/>
            <a:ext cx="2053440" cy="921600"/>
            <a:chOff x="773640" y="2209680"/>
            <a:chExt cx="2053440" cy="921600"/>
          </a:xfrm>
        </p:grpSpPr>
        <p:sp>
          <p:nvSpPr>
            <p:cNvPr id="188" name=""/>
            <p:cNvSpPr/>
            <p:nvPr/>
          </p:nvSpPr>
          <p:spPr>
            <a:xfrm>
              <a:off x="773640" y="2500200"/>
              <a:ext cx="20534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Newly cre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ff"/>
                  </a:solidFill>
                  <a:latin typeface="Comic Sans MS"/>
                </a:rPr>
                <a:t>thread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143000" y="220968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2280" y="5105520"/>
            <a:ext cx="28195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What happens wh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a program with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ServerSocket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Comic Sans MS"/>
              </a:rPr>
              <a:t>accept(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6200000">
            <a:off x="1257120" y="799560"/>
            <a:ext cx="4267080" cy="6019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019920"/>
              <a:gd name="textAreaBottom" fmla="*/ 5811840 h 6019920"/>
            </a:gdLst>
            <a:ahLst/>
            <a:rect l="textAreaLeft" t="textAreaTop" r="textAreaRight" b="textAreaBottom"/>
            <a:pathLst>
              <a:path w="21600" h="30472">
                <a:moveTo>
                  <a:pt x="3600" y="0"/>
                </a:moveTo>
                <a:arcTo wR="3600" hR="3600" stAng="16200000" swAng="-5400000"/>
                <a:lnTo>
                  <a:pt x="0" y="26872"/>
                </a:lnTo>
                <a:arcTo wR="3600" hR="3600" stAng="10800000" swAng="-5400000"/>
                <a:lnTo>
                  <a:pt x="18000" y="30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State Diagra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581280"/>
            <a:ext cx="144792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3581280"/>
            <a:ext cx="144792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d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81280" y="2057040"/>
            <a:ext cx="2209680" cy="312444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124440"/>
              <a:gd name="textAreaBottom" fmla="*/ 3016800 h 3124440"/>
            </a:gdLst>
            <a:ahLst/>
            <a:rect l="textAreaLeft" t="textAreaTop" r="textAreaRight" b="textAreaBottom"/>
            <a:pathLst>
              <a:path w="21600" h="30540">
                <a:moveTo>
                  <a:pt x="3600" y="0"/>
                </a:moveTo>
                <a:arcTo wR="3600" hR="3600" stAng="16200000" swAng="-5400000"/>
                <a:lnTo>
                  <a:pt x="0" y="26940"/>
                </a:lnTo>
                <a:arcTo wR="3600" hR="3600" stAng="10800000" swAng="-5400000"/>
                <a:lnTo>
                  <a:pt x="18000" y="3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3581280"/>
            <a:ext cx="114300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ThreadExamp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0760" y="42768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() method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80680" y="31478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(…) {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952880"/>
            <a:ext cx="1143000" cy="6858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3"/>
            <a:endCxn id="196" idx="1"/>
          </p:cNvCxnSpPr>
          <p:nvPr/>
        </p:nvCxnSpPr>
        <p:spPr>
          <a:xfrm>
            <a:off x="1905120" y="3924000"/>
            <a:ext cx="2286720" cy="108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6" idx="3"/>
            <a:endCxn id="194" idx="1"/>
          </p:cNvCxnSpPr>
          <p:nvPr/>
        </p:nvCxnSpPr>
        <p:spPr>
          <a:xfrm>
            <a:off x="5333760" y="3924000"/>
            <a:ext cx="1905480" cy="108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2"/>
            <a:endCxn id="200" idx="1"/>
          </p:cNvCxnSpPr>
          <p:nvPr/>
        </p:nvCxnSpPr>
        <p:spPr>
          <a:xfrm rot="5400000">
            <a:off x="3961440" y="4495680"/>
            <a:ext cx="1029600" cy="572040"/>
          </a:xfrm>
          <a:prstGeom prst="curvedConnector5">
            <a:avLst>
              <a:gd name="adj1" fmla="val 33333"/>
              <a:gd name="adj2" fmla="val 69962"/>
              <a:gd name="adj3" fmla="val 33333"/>
            </a:avLst>
          </a:prstGeom>
          <a:ln w="38160">
            <a:solidFill>
              <a:srgbClr val="ccccff"/>
            </a:solidFill>
            <a:miter/>
            <a:headEnd len="med" type="triangle" w="med"/>
          </a:ln>
        </p:spPr>
      </p:cxnSp>
      <p:cxnSp>
        <p:nvCxnSpPr>
          <p:cNvPr id="204" name=""/>
          <p:cNvCxnSpPr>
            <a:stCxn id="200" idx="3"/>
            <a:endCxn id="196" idx="2"/>
          </p:cNvCxnSpPr>
          <p:nvPr/>
        </p:nvCxnSpPr>
        <p:spPr>
          <a:xfrm flipH="1" flipV="1">
            <a:off x="4762080" y="4266720"/>
            <a:ext cx="572400" cy="1029600"/>
          </a:xfrm>
          <a:prstGeom prst="curvedConnector5">
            <a:avLst>
              <a:gd name="adj1" fmla="val -39962"/>
              <a:gd name="adj2" fmla="val 33333"/>
              <a:gd name="adj3" fmla="val -39962"/>
            </a:avLst>
          </a:prstGeom>
          <a:ln w="38160">
            <a:solidFill>
              <a:srgbClr val="ccccff"/>
            </a:solidFill>
            <a:miter/>
            <a:head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506560" y="5343480"/>
            <a:ext cx="24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.wa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ad.slee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ing IO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on a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34000" y="4048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ad.sta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aralleelprotse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rotsess ja thread: eris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us ja miks raken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Lihtsamad nä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ttp serveri nä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tsiooni nä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ünkroniseeri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üsim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ud lisainfot (ei jõua loengus va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ond example first par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PrintThread1 extends Thread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PrintThread1(String nam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is.name =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=1; i&lt;500 ; i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leep((long)(Math.random() * 100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catch (InterruptedException ie) { 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(nam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ond example continue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main(String args[]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a = new PrintThread1("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b = new PrintThread1("-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1 c = new PrintThread1("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a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b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c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181480"/>
            <a:ext cx="4648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t us run an exampl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echanism used to determine how runnable threads are allocated CPU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hread-scheduling mechanism is eithe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preemp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eemptive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Preemptive 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the thread scheduler preempts (pauses) a running thread to allow different thread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 schedu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scheduler never interrupts a running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preemptive schedu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lies on the running thread to yield control of the CPU so that other threads may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rv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preemptive scheduler may caus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ta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unnable threads, ready to be executed, wait to be executed in the CPU a lot of time, maybe even for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starvation is also called a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live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-Sliced Scheduling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Time-sliced schedu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scheduler allocates a period of time that each thread can use the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at amount of time has elapsed, the scheduler preempts the thread and switches to a different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Nontime-sliced schedu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the scheduler does not use elapsed time to determine when to preempt a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uses other criteria such as priority or I/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r is preemptive and based on priority of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fixed-priority schedu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are scheduled according to their priority w.r.t. other threads in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Schedu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priority runnable thread is always selected for execution above lower priority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ultiple threads have equally high priorities, only one of those threads is guaranteed to b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threads are guaranteed to be preemptive-but not time sl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read Priorit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thread has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thread is created, it inherits the priority of the thread that creat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ority values range from 1 to 10, in increas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Priority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ity can be adjusted subsequently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tPriorit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ity of a thread may be obtained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Priorit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constants are defin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_PRIORITY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PRIORITY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_PRIORITY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ultitask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a computer's ability to perform multiple jobs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 program are running concurrently, e.g.,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many processors on a machine, jobs can be assigned to differen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done one one processor? By time-sli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job gets a little time to ru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next job gets some tim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witches are quick and time slices small, user will have an impression that jobs are running in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ome Not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implementation in Java is actually based on operating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Windows operating systems support only 7 priority levels, so different levels in Java may actually be mapped to the same operating 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aemon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Dae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eads are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” threads, that provide services to other threads, e.g., the garbage collection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VM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will not 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non-Daemon threads ar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VM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will 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only Daemon threads are 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mon threads die when the Java VM ex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Grou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Group class is used to create groups of similar threads. Why is thi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852720"/>
            <a:ext cx="7238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d groups are best viewed as an unsuccessful experiment, and you may simply ignore their existen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hua Bloch, software architect at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4a09"/>
                </a:solidFill>
                <a:latin typeface="Arial"/>
              </a:rPr>
              <a:t>Multithreading Client-Server</a:t>
            </a:r>
            <a:endParaRPr b="1" lang="en-US" sz="3600" spc="-1" strike="noStrike">
              <a:solidFill>
                <a:srgbClr val="e84a0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HelloServ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rt = Integer.parseInt(args[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 serv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Socket(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err.println(“Couldn't run “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on port “ + 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cket connection = server.accept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nectionHandler handler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ConnectionHandler(connection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Thread(handler).start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 catch (IOException ioe1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nection Handl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Handles a connection of a client to an Hello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alks with the client in the 'hello'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onnectionHandler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he connection with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ocket conne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onnectionHandler(Socket connectio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connection = conne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2286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read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Stream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In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Writer writ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int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utputStream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Out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clientName = reader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println(“Hello “ + client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ent s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 client of an Hello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Hello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hostname = args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rt = Integer.parseInt(args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connection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= new Socket(hostname, por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err.println("Connection failed");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read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Stream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In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Writer writ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int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utputStreamWrit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.getOutputStream(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println(args[2]); // cli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reply = reader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Server reply: "+repl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.flus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catch (IOException ioe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currency vs. Parallelis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28880" y="2209680"/>
            <a:ext cx="129528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3886200"/>
            <a:ext cx="12952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28880" y="3352680"/>
            <a:ext cx="12952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8880" y="4724280"/>
            <a:ext cx="1295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2209680"/>
            <a:ext cx="91440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1905120"/>
            <a:ext cx="1676520" cy="38862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886200"/>
              <a:gd name="textAreaBottom" fmla="*/ 3804480 h 3886200"/>
            </a:gdLst>
            <a:ahLst/>
            <a:rect l="textAreaLeft" t="textAreaTop" r="textAreaRight" b="textAreaBottom"/>
            <a:pathLst>
              <a:path w="21600" h="50063">
                <a:moveTo>
                  <a:pt x="3600" y="0"/>
                </a:moveTo>
                <a:arcTo wR="3600" hR="3600" stAng="16200000" swAng="-5400000"/>
                <a:lnTo>
                  <a:pt x="0" y="46463"/>
                </a:lnTo>
                <a:arcTo wR="3600" hR="3600" stAng="10800000" swAng="-5400000"/>
                <a:lnTo>
                  <a:pt x="18000" y="5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209680"/>
            <a:ext cx="914400" cy="327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9720" y="13111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240" y="131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131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371600"/>
            <a:ext cx="0" cy="47242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urther development of server: actual http serv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check an actual implementation of a http (web)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rallel work and anim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common use of threads is to d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thread runs continuously while graphics is displayed. Several times  a second, the thread changes the applications displ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changes are frequent enough, and the changes small enough, the viewer will perceive continuous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ing with threads is called parallel  programming because several threads can run in parall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llel  programming can get tricky when several threads are all using a shared re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example of a shared resource  would be the screen. If several threads try to draw to the screen at the same time, it's possible for the contents of the  screen to become corrup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is applet scrolls the message "hello world acros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crollingHelloWorld extends Applet implements 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read runner;  // a thread tha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responsible for cycling the message col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final static int GO = 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volatile int statu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message = "Hello World!"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Position =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2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 messageFo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Heigh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essage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har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tBackground(Color.wh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Font = new Font("Monospaced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.BOLD, 3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ntMetrics fm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etFontMetrics(messageF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Width = fm.stringWidth(mess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Height = fm.getAsce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arWidth = fm.charWidth('H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paint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messagePosition &gt; 0) {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setFont(messageFo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message, getSize().width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, getSize().height/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messageHeight/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3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alled when the applet is being sta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or resta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reate a new thread or restar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existing th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runner == null || ! runner.isAlive()) {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new Thread(th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sto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SUSP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public void destroy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Called when the applet is about to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ermanently destroy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Stop the th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us = TERMIN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4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nextFram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 += charWid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getSize().width - messagePosition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Width &lt; 0)  // message 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moved  off left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essagePosition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pa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status != TERMINAT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(thi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status == SUSP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Dela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status == 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xtFr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status == 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Delay(2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ru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Scrolling HelloWorld pg 5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waitDelay(int millisecond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(millisecond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catch (Interrupted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nchronized void waitDelay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catch (Interrupted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crollingHello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currenc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in a program can be changed by more than one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order of changes that were preformed on the object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ace Condi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race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utcome of a program is affected by the order in which the program's threads are allocated CPU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300"/>
              </a:spcAft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hreads are simultaneously modifying a sing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300"/>
              </a:spcAft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reads “race” to store thei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ace Condition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438280"/>
            <a:ext cx="609480" cy="2819520"/>
          </a:xfrm>
          <a:custGeom>
            <a:avLst/>
            <a:gdLst/>
            <a:ahLst/>
            <a:rect l="l" t="t" r="r" b="b"/>
            <a:pathLst>
              <a:path w="384" h="1776">
                <a:moveTo>
                  <a:pt x="384" y="0"/>
                </a:moveTo>
                <a:cubicBezTo>
                  <a:pt x="192" y="152"/>
                  <a:pt x="0" y="304"/>
                  <a:pt x="0" y="480"/>
                </a:cubicBezTo>
                <a:cubicBezTo>
                  <a:pt x="0" y="656"/>
                  <a:pt x="384" y="840"/>
                  <a:pt x="384" y="1056"/>
                </a:cubicBezTo>
                <a:cubicBezTo>
                  <a:pt x="384" y="1272"/>
                  <a:pt x="192" y="1524"/>
                  <a:pt x="0" y="1776"/>
                </a:cubicBezTo>
              </a:path>
            </a:pathLst>
          </a:custGeom>
          <a:noFill/>
          <a:ln w="9360">
            <a:solidFill>
              <a:srgbClr val="0037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2438280"/>
            <a:ext cx="698400" cy="2667240"/>
          </a:xfrm>
          <a:custGeom>
            <a:avLst/>
            <a:gdLst/>
            <a:ahLst/>
            <a:rect l="l" t="t" r="r" b="b"/>
            <a:pathLst>
              <a:path w="440" h="1680">
                <a:moveTo>
                  <a:pt x="184" y="0"/>
                </a:moveTo>
                <a:cubicBezTo>
                  <a:pt x="92" y="124"/>
                  <a:pt x="0" y="248"/>
                  <a:pt x="40" y="336"/>
                </a:cubicBezTo>
                <a:cubicBezTo>
                  <a:pt x="80" y="424"/>
                  <a:pt x="408" y="432"/>
                  <a:pt x="424" y="528"/>
                </a:cubicBezTo>
                <a:cubicBezTo>
                  <a:pt x="440" y="624"/>
                  <a:pt x="136" y="784"/>
                  <a:pt x="136" y="912"/>
                </a:cubicBezTo>
                <a:cubicBezTo>
                  <a:pt x="136" y="1040"/>
                  <a:pt x="416" y="1168"/>
                  <a:pt x="424" y="1296"/>
                </a:cubicBezTo>
                <a:cubicBezTo>
                  <a:pt x="432" y="1424"/>
                  <a:pt x="308" y="1552"/>
                  <a:pt x="184" y="16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334120"/>
            <a:ext cx="2590560" cy="533160"/>
          </a:xfrm>
          <a:prstGeom prst="rect">
            <a:avLst/>
          </a:prstGeom>
          <a:noFill/>
          <a:ln w="5724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8a"/>
                </a:solidFill>
                <a:latin typeface="Times New Roman"/>
              </a:rPr>
              <a:t>Put green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5181480"/>
            <a:ext cx="2057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t red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4952880"/>
            <a:ext cx="3048120" cy="1143000"/>
          </a:xfrm>
          <a:prstGeom prst="rect">
            <a:avLst/>
          </a:prstGeom>
          <a:noFill/>
          <a:ln w="57240">
            <a:solidFill>
              <a:srgbClr val="ec9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altern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c9d00"/>
                </a:solidFill>
                <a:latin typeface="Times New Roman"/>
              </a:rPr>
              <a:t>col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44197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4267080"/>
            <a:ext cx="1828800" cy="152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411480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9625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809880"/>
            <a:ext cx="1828800" cy="1526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350532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3352680"/>
            <a:ext cx="1828800" cy="152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32004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048120"/>
            <a:ext cx="1828800" cy="1522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95480"/>
            <a:ext cx="1828800" cy="152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2743200"/>
            <a:ext cx="1828800" cy="152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munication iss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wo different parallel jobs communic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ption: ov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ption: having access to same memory areas (same global variables and created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ncipal possi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wo different jobs do not have common global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wo different processes can use common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 “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that is a token used to determine which application thread has control of a particular object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xecution of</a:t>
            </a:r>
            <a:r>
              <a:rPr b="0" i="1" lang="en-US" sz="2000" spc="-1" strike="noStrike">
                <a:solidFill>
                  <a:srgbClr val="e84a0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e84a0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(or block), access to the object monitor must be gained before the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the object monitor is que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onitor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ring a monitor is also referred to as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loc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monitor, or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  <a:ea typeface="Times New Roman"/>
              </a:rPr>
              <a:t>acquiring owners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a th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ries to acquire ownership of a monitor and a different thread has already entered the monitor, the current threa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must wait until the other thread leaves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itical Sec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chronized methods defin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critical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critical sections is mutually exclusive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bal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eposit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withdraw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-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25909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itical Sectio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362320"/>
            <a:ext cx="2362320" cy="236196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  <a:ea typeface="Arial"/>
              </a:rPr>
              <a:t>Bank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2743200"/>
            <a:ext cx="38088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66280" y="2120760"/>
            <a:ext cx="119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066680"/>
            <a:ext cx="2286000" cy="1752840"/>
          </a:xfrm>
          <a:custGeom>
            <a:avLst/>
            <a:gdLst/>
            <a:ahLst/>
            <a:rect l="l" t="t" r="r" b="b"/>
            <a:pathLst>
              <a:path w="1392" h="1072">
                <a:moveTo>
                  <a:pt x="0" y="0"/>
                </a:moveTo>
                <a:cubicBezTo>
                  <a:pt x="8" y="236"/>
                  <a:pt x="16" y="472"/>
                  <a:pt x="144" y="576"/>
                </a:cubicBezTo>
                <a:cubicBezTo>
                  <a:pt x="272" y="680"/>
                  <a:pt x="632" y="552"/>
                  <a:pt x="768" y="624"/>
                </a:cubicBezTo>
                <a:cubicBezTo>
                  <a:pt x="904" y="696"/>
                  <a:pt x="856" y="944"/>
                  <a:pt x="960" y="1008"/>
                </a:cubicBezTo>
                <a:cubicBezTo>
                  <a:pt x="1064" y="1072"/>
                  <a:pt x="1228" y="1040"/>
                  <a:pt x="1392" y="1008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8480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2743200"/>
            <a:ext cx="838080" cy="1522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0" y="16"/>
                </a:moveTo>
                <a:cubicBezTo>
                  <a:pt x="76" y="8"/>
                  <a:pt x="152" y="0"/>
                  <a:pt x="192" y="16"/>
                </a:cubicBezTo>
                <a:cubicBezTo>
                  <a:pt x="232" y="32"/>
                  <a:pt x="224" y="88"/>
                  <a:pt x="240" y="112"/>
                </a:cubicBezTo>
                <a:cubicBezTo>
                  <a:pt x="256" y="136"/>
                  <a:pt x="248" y="152"/>
                  <a:pt x="288" y="160"/>
                </a:cubicBezTo>
                <a:cubicBezTo>
                  <a:pt x="328" y="168"/>
                  <a:pt x="404" y="164"/>
                  <a:pt x="480" y="160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990720"/>
            <a:ext cx="2666880" cy="2209680"/>
          </a:xfrm>
          <a:custGeom>
            <a:avLst/>
            <a:gdLst/>
            <a:ahLst/>
            <a:rect l="l" t="t" r="r" b="b"/>
            <a:pathLst>
              <a:path w="1680" h="1424">
                <a:moveTo>
                  <a:pt x="0" y="0"/>
                </a:moveTo>
                <a:cubicBezTo>
                  <a:pt x="68" y="136"/>
                  <a:pt x="136" y="272"/>
                  <a:pt x="144" y="384"/>
                </a:cubicBezTo>
                <a:cubicBezTo>
                  <a:pt x="152" y="496"/>
                  <a:pt x="16" y="576"/>
                  <a:pt x="48" y="672"/>
                </a:cubicBezTo>
                <a:cubicBezTo>
                  <a:pt x="80" y="768"/>
                  <a:pt x="200" y="912"/>
                  <a:pt x="336" y="960"/>
                </a:cubicBezTo>
                <a:cubicBezTo>
                  <a:pt x="472" y="1008"/>
                  <a:pt x="736" y="888"/>
                  <a:pt x="864" y="960"/>
                </a:cubicBezTo>
                <a:cubicBezTo>
                  <a:pt x="992" y="1032"/>
                  <a:pt x="968" y="1360"/>
                  <a:pt x="1104" y="1392"/>
                </a:cubicBezTo>
                <a:cubicBezTo>
                  <a:pt x="1240" y="1424"/>
                  <a:pt x="1460" y="1288"/>
                  <a:pt x="1680" y="1152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2819520"/>
            <a:ext cx="838440" cy="1522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0" y="16"/>
                </a:moveTo>
                <a:cubicBezTo>
                  <a:pt x="76" y="8"/>
                  <a:pt x="152" y="0"/>
                  <a:pt x="192" y="16"/>
                </a:cubicBezTo>
                <a:cubicBezTo>
                  <a:pt x="232" y="32"/>
                  <a:pt x="224" y="88"/>
                  <a:pt x="240" y="112"/>
                </a:cubicBezTo>
                <a:cubicBezTo>
                  <a:pt x="256" y="136"/>
                  <a:pt x="248" y="152"/>
                  <a:pt x="288" y="160"/>
                </a:cubicBezTo>
                <a:cubicBezTo>
                  <a:pt x="328" y="168"/>
                  <a:pt x="404" y="164"/>
                  <a:pt x="480" y="160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5128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800" y="673200"/>
            <a:ext cx="4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914400"/>
            <a:ext cx="3124080" cy="2209680"/>
          </a:xfrm>
          <a:custGeom>
            <a:avLst/>
            <a:gdLst/>
            <a:ahLst/>
            <a:rect l="l" t="t" r="r" b="b"/>
            <a:pathLst>
              <a:path w="1872" h="1408">
                <a:moveTo>
                  <a:pt x="0" y="0"/>
                </a:moveTo>
                <a:cubicBezTo>
                  <a:pt x="88" y="116"/>
                  <a:pt x="176" y="232"/>
                  <a:pt x="192" y="384"/>
                </a:cubicBezTo>
                <a:cubicBezTo>
                  <a:pt x="208" y="536"/>
                  <a:pt x="8" y="832"/>
                  <a:pt x="96" y="912"/>
                </a:cubicBezTo>
                <a:cubicBezTo>
                  <a:pt x="184" y="992"/>
                  <a:pt x="568" y="792"/>
                  <a:pt x="720" y="864"/>
                </a:cubicBezTo>
                <a:cubicBezTo>
                  <a:pt x="872" y="936"/>
                  <a:pt x="816" y="1280"/>
                  <a:pt x="1008" y="1344"/>
                </a:cubicBezTo>
                <a:cubicBezTo>
                  <a:pt x="1200" y="1408"/>
                  <a:pt x="1536" y="1328"/>
                  <a:pt x="1872" y="1248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806560"/>
            <a:ext cx="762120" cy="165240"/>
          </a:xfrm>
          <a:custGeom>
            <a:avLst/>
            <a:gdLst/>
            <a:ahLst/>
            <a:rect l="l" t="t" r="r" b="b"/>
            <a:pathLst>
              <a:path w="480" h="104">
                <a:moveTo>
                  <a:pt x="0" y="56"/>
                </a:moveTo>
                <a:cubicBezTo>
                  <a:pt x="80" y="28"/>
                  <a:pt x="160" y="0"/>
                  <a:pt x="240" y="8"/>
                </a:cubicBezTo>
                <a:cubicBezTo>
                  <a:pt x="320" y="16"/>
                  <a:pt x="400" y="60"/>
                  <a:pt x="480" y="104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2590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KEY05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533160" cy="443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743200"/>
            <a:ext cx="533520" cy="533520"/>
          </a:xfrm>
          <a:prstGeom prst="irregularSeal1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971800"/>
            <a:ext cx="1765440" cy="2438280"/>
          </a:xfrm>
          <a:custGeom>
            <a:avLst/>
            <a:gdLst/>
            <a:ahLst/>
            <a:rect l="l" t="t" r="r" b="b"/>
            <a:pathLst>
              <a:path w="1112" h="1536">
                <a:moveTo>
                  <a:pt x="1008" y="0"/>
                </a:moveTo>
                <a:cubicBezTo>
                  <a:pt x="1060" y="44"/>
                  <a:pt x="1112" y="88"/>
                  <a:pt x="1056" y="96"/>
                </a:cubicBezTo>
                <a:cubicBezTo>
                  <a:pt x="1000" y="104"/>
                  <a:pt x="744" y="16"/>
                  <a:pt x="672" y="48"/>
                </a:cubicBezTo>
                <a:cubicBezTo>
                  <a:pt x="600" y="80"/>
                  <a:pt x="712" y="192"/>
                  <a:pt x="624" y="288"/>
                </a:cubicBezTo>
                <a:cubicBezTo>
                  <a:pt x="536" y="384"/>
                  <a:pt x="248" y="496"/>
                  <a:pt x="144" y="624"/>
                </a:cubicBezTo>
                <a:cubicBezTo>
                  <a:pt x="40" y="752"/>
                  <a:pt x="0" y="960"/>
                  <a:pt x="0" y="1056"/>
                </a:cubicBezTo>
                <a:cubicBezTo>
                  <a:pt x="0" y="1152"/>
                  <a:pt x="128" y="1120"/>
                  <a:pt x="144" y="1200"/>
                </a:cubicBezTo>
                <a:cubicBezTo>
                  <a:pt x="160" y="1280"/>
                  <a:pt x="128" y="1408"/>
                  <a:pt x="96" y="1536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4160" y="2895480"/>
            <a:ext cx="1359000" cy="2362320"/>
          </a:xfrm>
          <a:custGeom>
            <a:avLst/>
            <a:gdLst/>
            <a:ahLst/>
            <a:rect l="l" t="t" r="r" b="b"/>
            <a:pathLst>
              <a:path w="856" h="1488">
                <a:moveTo>
                  <a:pt x="688" y="0"/>
                </a:moveTo>
                <a:cubicBezTo>
                  <a:pt x="772" y="12"/>
                  <a:pt x="856" y="24"/>
                  <a:pt x="784" y="48"/>
                </a:cubicBezTo>
                <a:cubicBezTo>
                  <a:pt x="712" y="72"/>
                  <a:pt x="384" y="56"/>
                  <a:pt x="256" y="144"/>
                </a:cubicBezTo>
                <a:cubicBezTo>
                  <a:pt x="128" y="232"/>
                  <a:pt x="24" y="448"/>
                  <a:pt x="16" y="576"/>
                </a:cubicBezTo>
                <a:cubicBezTo>
                  <a:pt x="8" y="704"/>
                  <a:pt x="208" y="800"/>
                  <a:pt x="208" y="912"/>
                </a:cubicBezTo>
                <a:cubicBezTo>
                  <a:pt x="208" y="1024"/>
                  <a:pt x="32" y="1152"/>
                  <a:pt x="16" y="1248"/>
                </a:cubicBezTo>
                <a:cubicBezTo>
                  <a:pt x="0" y="1344"/>
                  <a:pt x="56" y="1416"/>
                  <a:pt x="112" y="1488"/>
                </a:cubicBezTo>
              </a:path>
            </a:pathLst>
          </a:custGeom>
          <a:noFill/>
          <a:ln w="38160">
            <a:solidFill>
              <a:srgbClr val="99ff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2971800"/>
            <a:ext cx="1307880" cy="2438280"/>
          </a:xfrm>
          <a:custGeom>
            <a:avLst/>
            <a:gdLst/>
            <a:ahLst/>
            <a:rect l="l" t="t" r="r" b="b"/>
            <a:pathLst>
              <a:path w="824" h="1536">
                <a:moveTo>
                  <a:pt x="640" y="0"/>
                </a:moveTo>
                <a:cubicBezTo>
                  <a:pt x="732" y="56"/>
                  <a:pt x="824" y="112"/>
                  <a:pt x="784" y="144"/>
                </a:cubicBezTo>
                <a:cubicBezTo>
                  <a:pt x="744" y="176"/>
                  <a:pt x="472" y="144"/>
                  <a:pt x="400" y="192"/>
                </a:cubicBezTo>
                <a:cubicBezTo>
                  <a:pt x="328" y="240"/>
                  <a:pt x="416" y="352"/>
                  <a:pt x="352" y="432"/>
                </a:cubicBezTo>
                <a:cubicBezTo>
                  <a:pt x="288" y="512"/>
                  <a:pt x="0" y="520"/>
                  <a:pt x="16" y="672"/>
                </a:cubicBezTo>
                <a:cubicBezTo>
                  <a:pt x="32" y="824"/>
                  <a:pt x="384" y="1200"/>
                  <a:pt x="448" y="1344"/>
                </a:cubicBezTo>
                <a:cubicBezTo>
                  <a:pt x="512" y="1488"/>
                  <a:pt x="456" y="1512"/>
                  <a:pt x="400" y="1536"/>
                </a:cubicBezTo>
              </a:path>
            </a:pathLst>
          </a:custGeom>
          <a:noFill/>
          <a:ln w="38160">
            <a:solidFill>
              <a:srgbClr val="ff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atic Synchronized Metho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ing a static method as synchronized, associates a monitor with the class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cution of synchronized static methods of the same class is mutually exclu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PrintThread2 extends Thread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PrintThread2(String nam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is.name = 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synchronized void print(String 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for (int i=1; i&lt;500 ; i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hread.sleep((long)(Math.random() * 100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catch (InterruptedException ie) { 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out.print(str);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ample (cont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(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main(String args[]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a = new PrintThread2("*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b = new PrintThread2("-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intThread2 c = new PrintThread2("=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a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b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c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adlock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bal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eposit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withdraw(float amoun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-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0" lang="en-US" sz="1800" spc="-1" strike="noStrike">
                <a:solidFill>
                  <a:srgbClr val="ec9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transfer(float amou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targe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draw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.deposit(am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MoneyTransfer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BankAccount from, 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loat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MoneyTransf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from, BankAccount to, float amount)  {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from = fr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to = 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amount = am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.transfer(amount, targ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e84a09"/>
                </a:solidFill>
                <a:latin typeface="Arial"/>
              </a:rPr>
              <a:t> th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resents a thread of control, which independently executes a sequence of instructions from beginning to 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threads can exist and run at the same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Java program  can create one or more threads and start them run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of the threads  acts like a little independent program, and threads can easily communicate with each other using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66680" y="4876920"/>
            <a:ext cx="1905120" cy="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048120" y="4419720"/>
            <a:ext cx="1904760" cy="45720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876920"/>
            <a:ext cx="1371600" cy="15228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4800240"/>
            <a:ext cx="1752480" cy="22860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05520"/>
            <a:ext cx="1676160" cy="304560"/>
          </a:xfrm>
          <a:prstGeom prst="line">
            <a:avLst/>
          </a:prstGeom>
          <a:ln w="3168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1840" y="50292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6600" y="56386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ocess has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veral threads which may use a global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reated in the originating pro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aliceAccount = new BankAccou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Account bobAccount = new BankAccou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t on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able transaction1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neyTransfer(aliceAccount, bobAccount, 12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1 = new Thread(transaction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t anothe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able transaction2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neyTransfer(bobAccount, aliceAccount, 7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2 = new Thread(transaction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410080" y="39625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3962520"/>
            <a:ext cx="380880" cy="380880"/>
          </a:xfrm>
          <a:prstGeom prst="ellipse">
            <a:avLst/>
          </a:prstGeom>
          <a:noFill/>
          <a:ln w="3816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adlock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3733920"/>
            <a:ext cx="1676520" cy="167616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3962520"/>
            <a:ext cx="30492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KEY05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309600" cy="25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943600" y="4648320"/>
            <a:ext cx="380880" cy="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914400" y="3657600"/>
            <a:ext cx="1752480" cy="1676520"/>
          </a:xfrm>
          <a:prstGeom prst="ellipse">
            <a:avLst/>
          </a:prstGeom>
          <a:noFill/>
          <a:ln w="284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90920" y="3962520"/>
            <a:ext cx="30456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09040" y="486720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KEY05" descr=""/>
          <p:cNvPicPr/>
          <p:nvPr/>
        </p:nvPicPr>
        <p:blipFill>
          <a:blip r:embed="rId2"/>
          <a:stretch/>
        </p:blipFill>
        <p:spPr>
          <a:xfrm flipH="1">
            <a:off x="3276720" y="4038480"/>
            <a:ext cx="309600" cy="257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2438280" y="5028840"/>
            <a:ext cx="45720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34680" y="2557440"/>
            <a:ext cx="16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ice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55200" y="2633760"/>
            <a:ext cx="155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ob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315200" y="2971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1219320"/>
            <a:ext cx="635040" cy="2971800"/>
          </a:xfrm>
          <a:custGeom>
            <a:avLst/>
            <a:gdLst/>
            <a:ahLst/>
            <a:rect l="l" t="t" r="r" b="b"/>
            <a:pathLst>
              <a:path w="400" h="1872">
                <a:moveTo>
                  <a:pt x="288" y="0"/>
                </a:moveTo>
                <a:cubicBezTo>
                  <a:pt x="212" y="116"/>
                  <a:pt x="136" y="232"/>
                  <a:pt x="144" y="336"/>
                </a:cubicBezTo>
                <a:cubicBezTo>
                  <a:pt x="152" y="440"/>
                  <a:pt x="344" y="504"/>
                  <a:pt x="336" y="624"/>
                </a:cubicBezTo>
                <a:cubicBezTo>
                  <a:pt x="328" y="744"/>
                  <a:pt x="88" y="904"/>
                  <a:pt x="96" y="1056"/>
                </a:cubicBezTo>
                <a:cubicBezTo>
                  <a:pt x="104" y="1208"/>
                  <a:pt x="400" y="1400"/>
                  <a:pt x="384" y="1536"/>
                </a:cubicBezTo>
                <a:cubicBezTo>
                  <a:pt x="368" y="1672"/>
                  <a:pt x="184" y="1772"/>
                  <a:pt x="0" y="1872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3936960"/>
            <a:ext cx="762120" cy="254160"/>
          </a:xfrm>
          <a:custGeom>
            <a:avLst/>
            <a:gdLst/>
            <a:ahLst/>
            <a:rect l="l" t="t" r="r" b="b"/>
            <a:pathLst>
              <a:path w="480" h="160">
                <a:moveTo>
                  <a:pt x="480" y="64"/>
                </a:moveTo>
                <a:cubicBezTo>
                  <a:pt x="424" y="32"/>
                  <a:pt x="368" y="0"/>
                  <a:pt x="288" y="16"/>
                </a:cubicBezTo>
                <a:cubicBezTo>
                  <a:pt x="208" y="32"/>
                  <a:pt x="104" y="96"/>
                  <a:pt x="0" y="160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4038480"/>
            <a:ext cx="533520" cy="609840"/>
          </a:xfrm>
          <a:prstGeom prst="irregularSeal1">
            <a:avLst/>
          </a:prstGeom>
          <a:noFill/>
          <a:ln w="1908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1295280"/>
            <a:ext cx="762120" cy="2819520"/>
          </a:xfrm>
          <a:custGeom>
            <a:avLst/>
            <a:gdLst/>
            <a:ahLst/>
            <a:rect l="l" t="t" r="r" b="b"/>
            <a:pathLst>
              <a:path w="480" h="1776">
                <a:moveTo>
                  <a:pt x="48" y="0"/>
                </a:moveTo>
                <a:cubicBezTo>
                  <a:pt x="148" y="108"/>
                  <a:pt x="248" y="216"/>
                  <a:pt x="240" y="336"/>
                </a:cubicBezTo>
                <a:cubicBezTo>
                  <a:pt x="232" y="456"/>
                  <a:pt x="0" y="592"/>
                  <a:pt x="0" y="720"/>
                </a:cubicBezTo>
                <a:cubicBezTo>
                  <a:pt x="0" y="848"/>
                  <a:pt x="232" y="984"/>
                  <a:pt x="240" y="1104"/>
                </a:cubicBezTo>
                <a:cubicBezTo>
                  <a:pt x="248" y="1224"/>
                  <a:pt x="8" y="1328"/>
                  <a:pt x="48" y="1440"/>
                </a:cubicBezTo>
                <a:cubicBezTo>
                  <a:pt x="88" y="1552"/>
                  <a:pt x="284" y="1664"/>
                  <a:pt x="480" y="1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3936960"/>
            <a:ext cx="761760" cy="254160"/>
          </a:xfrm>
          <a:custGeom>
            <a:avLst/>
            <a:gdLst/>
            <a:ahLst/>
            <a:rect l="l" t="t" r="r" b="b"/>
            <a:pathLst>
              <a:path w="480" h="160">
                <a:moveTo>
                  <a:pt x="0" y="64"/>
                </a:moveTo>
                <a:cubicBezTo>
                  <a:pt x="56" y="32"/>
                  <a:pt x="112" y="0"/>
                  <a:pt x="192" y="16"/>
                </a:cubicBezTo>
                <a:cubicBezTo>
                  <a:pt x="272" y="32"/>
                  <a:pt x="376" y="96"/>
                  <a:pt x="48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3962520"/>
            <a:ext cx="609840" cy="609480"/>
          </a:xfrm>
          <a:prstGeom prst="irregularSeal1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740400" y="9050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78480" y="9050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172200" y="5028840"/>
            <a:ext cx="304920" cy="15228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666520" y="4648320"/>
            <a:ext cx="381240" cy="0"/>
          </a:xfrm>
          <a:prstGeom prst="line">
            <a:avLst/>
          </a:prstGeom>
          <a:ln w="38160">
            <a:solidFill>
              <a:srgbClr val="e84a0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647080" y="479124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pos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4267080"/>
            <a:ext cx="1181160" cy="457200"/>
          </a:xfrm>
          <a:custGeom>
            <a:avLst/>
            <a:gdLst/>
            <a:ahLst/>
            <a:rect l="l" t="t" r="r" b="b"/>
            <a:pathLst>
              <a:path w="744" h="288">
                <a:moveTo>
                  <a:pt x="0" y="0"/>
                </a:moveTo>
                <a:cubicBezTo>
                  <a:pt x="300" y="52"/>
                  <a:pt x="600" y="104"/>
                  <a:pt x="672" y="144"/>
                </a:cubicBezTo>
                <a:cubicBezTo>
                  <a:pt x="744" y="184"/>
                  <a:pt x="528" y="216"/>
                  <a:pt x="432" y="240"/>
                </a:cubicBezTo>
                <a:cubicBezTo>
                  <a:pt x="336" y="264"/>
                  <a:pt x="216" y="276"/>
                  <a:pt x="96" y="288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4343400"/>
            <a:ext cx="1257480" cy="469800"/>
          </a:xfrm>
          <a:custGeom>
            <a:avLst/>
            <a:gdLst/>
            <a:ahLst/>
            <a:rect l="l" t="t" r="r" b="b"/>
            <a:pathLst>
              <a:path w="792" h="296">
                <a:moveTo>
                  <a:pt x="144" y="240"/>
                </a:moveTo>
                <a:cubicBezTo>
                  <a:pt x="92" y="268"/>
                  <a:pt x="40" y="296"/>
                  <a:pt x="144" y="288"/>
                </a:cubicBezTo>
                <a:cubicBezTo>
                  <a:pt x="248" y="280"/>
                  <a:pt x="792" y="240"/>
                  <a:pt x="768" y="192"/>
                </a:cubicBezTo>
                <a:cubicBezTo>
                  <a:pt x="744" y="144"/>
                  <a:pt x="372" y="72"/>
                  <a:pt x="0" y="0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962520"/>
            <a:ext cx="2895840" cy="736560"/>
          </a:xfrm>
          <a:custGeom>
            <a:avLst/>
            <a:gdLst/>
            <a:ahLst/>
            <a:rect l="l" t="t" r="r" b="b"/>
            <a:pathLst>
              <a:path w="1824" h="464">
                <a:moveTo>
                  <a:pt x="1824" y="200"/>
                </a:moveTo>
                <a:cubicBezTo>
                  <a:pt x="1680" y="180"/>
                  <a:pt x="1536" y="160"/>
                  <a:pt x="1392" y="200"/>
                </a:cubicBezTo>
                <a:cubicBezTo>
                  <a:pt x="1248" y="240"/>
                  <a:pt x="1136" y="464"/>
                  <a:pt x="960" y="440"/>
                </a:cubicBezTo>
                <a:cubicBezTo>
                  <a:pt x="784" y="416"/>
                  <a:pt x="496" y="112"/>
                  <a:pt x="336" y="56"/>
                </a:cubicBezTo>
                <a:cubicBezTo>
                  <a:pt x="176" y="0"/>
                  <a:pt x="88" y="52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3962520"/>
            <a:ext cx="2971800" cy="672840"/>
          </a:xfrm>
          <a:custGeom>
            <a:avLst/>
            <a:gdLst/>
            <a:ahLst/>
            <a:rect l="l" t="t" r="r" b="b"/>
            <a:pathLst>
              <a:path w="1872" h="424">
                <a:moveTo>
                  <a:pt x="0" y="296"/>
                </a:moveTo>
                <a:cubicBezTo>
                  <a:pt x="348" y="264"/>
                  <a:pt x="696" y="232"/>
                  <a:pt x="912" y="248"/>
                </a:cubicBezTo>
                <a:cubicBezTo>
                  <a:pt x="1128" y="264"/>
                  <a:pt x="1200" y="424"/>
                  <a:pt x="1296" y="392"/>
                </a:cubicBezTo>
                <a:cubicBezTo>
                  <a:pt x="1392" y="360"/>
                  <a:pt x="1392" y="112"/>
                  <a:pt x="1488" y="56"/>
                </a:cubicBezTo>
                <a:cubicBezTo>
                  <a:pt x="1584" y="0"/>
                  <a:pt x="1728" y="28"/>
                  <a:pt x="1872" y="56"/>
                </a:cubicBezTo>
              </a:path>
            </a:pathLst>
          </a:custGeom>
          <a:noFill/>
          <a:ln w="38160">
            <a:solidFill>
              <a:srgbClr val="00378a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25160" y="3581280"/>
            <a:ext cx="11757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36040" y="3571920"/>
            <a:ext cx="114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nsf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88520" y="425772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dra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7760" y="3495600"/>
            <a:ext cx="114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nsf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625840" y="425772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dra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00880" y="4191120"/>
            <a:ext cx="1028520" cy="457200"/>
          </a:xfrm>
          <a:custGeom>
            <a:avLst/>
            <a:gdLst/>
            <a:ahLst/>
            <a:rect l="l" t="t" r="r" b="b"/>
            <a:pathLst>
              <a:path w="648" h="288">
                <a:moveTo>
                  <a:pt x="648" y="0"/>
                </a:moveTo>
                <a:cubicBezTo>
                  <a:pt x="396" y="96"/>
                  <a:pt x="144" y="192"/>
                  <a:pt x="72" y="240"/>
                </a:cubicBezTo>
                <a:cubicBezTo>
                  <a:pt x="0" y="288"/>
                  <a:pt x="108" y="288"/>
                  <a:pt x="216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648320"/>
            <a:ext cx="685800" cy="7596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0" y="0"/>
                  <a:pt x="216" y="24"/>
                  <a:pt x="432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30240" bIns="302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267080"/>
            <a:ext cx="99072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624" y="288"/>
                </a:moveTo>
                <a:cubicBezTo>
                  <a:pt x="312" y="312"/>
                  <a:pt x="0" y="336"/>
                  <a:pt x="0" y="288"/>
                </a:cubicBezTo>
                <a:cubicBezTo>
                  <a:pt x="0" y="240"/>
                  <a:pt x="312" y="120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 Locks are Reentra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 problem with the following co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3048120"/>
            <a:ext cx="807732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class Tes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ynchronized void a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b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I am at 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ynchronized void b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I am at b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ynchronized Statement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monitor can be assigned to 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used to monitor access to a data element that is not an object, e.g.,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void arrayShift(byte[] array, int count) {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e84a09"/>
                </a:solidFill>
                <a:latin typeface="Arial"/>
                <a:ea typeface="Courier New"/>
              </a:rPr>
              <a:t>synchronized(array) { </a:t>
            </a:r>
            <a:r>
              <a:rPr b="0" lang="en-US" sz="1800" spc="-1" strike="noStrike">
                <a:solidFill>
                  <a:srgbClr val="e84a09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System.arraycopy (array, count,arra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                                       0, array.size - coun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 Synchronizatio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synchronized between transactions, for example, the consumer-producer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3733920"/>
            <a:ext cx="83818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homer9" descr=""/>
          <p:cNvPicPr/>
          <p:nvPr/>
        </p:nvPicPr>
        <p:blipFill>
          <a:blip r:embed="rId1"/>
          <a:stretch/>
        </p:blipFill>
        <p:spPr>
          <a:xfrm>
            <a:off x="8153280" y="4876920"/>
            <a:ext cx="560520" cy="1417680"/>
          </a:xfrm>
          <a:prstGeom prst="rect">
            <a:avLst/>
          </a:prstGeom>
          <a:ln w="0">
            <a:noFill/>
          </a:ln>
        </p:spPr>
      </p:pic>
      <p:pic>
        <p:nvPicPr>
          <p:cNvPr id="373" name="margecaring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233360" cy="2343240"/>
          </a:xfrm>
          <a:prstGeom prst="rect">
            <a:avLst/>
          </a:prstGeom>
          <a:ln w="0">
            <a:noFill/>
          </a:ln>
        </p:spPr>
      </p:pic>
      <p:pic>
        <p:nvPicPr>
          <p:cNvPr id="374" name="jar" descr=""/>
          <p:cNvPicPr/>
          <p:nvPr/>
        </p:nvPicPr>
        <p:blipFill>
          <a:blip r:embed="rId3"/>
          <a:stretch/>
        </p:blipFill>
        <p:spPr>
          <a:xfrm>
            <a:off x="4114800" y="3886200"/>
            <a:ext cx="15210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2057400" y="5562720"/>
            <a:ext cx="5409720" cy="609480"/>
            <a:chOff x="2057400" y="5562720"/>
            <a:chExt cx="5409720" cy="609480"/>
          </a:xfrm>
        </p:grpSpPr>
        <p:sp>
          <p:nvSpPr>
            <p:cNvPr id="376" name=""/>
            <p:cNvSpPr/>
            <p:nvPr/>
          </p:nvSpPr>
          <p:spPr>
            <a:xfrm>
              <a:off x="4267080" y="5562720"/>
              <a:ext cx="837720" cy="533160"/>
            </a:xfrm>
            <a:prstGeom prst="ellipse">
              <a:avLst/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57400" y="57150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0960" y="57150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99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 and Notif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wo threads to co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single shared lock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e put a cookie wait and notify H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 eat a cookie wait and notify M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e put a cookie wait and notify H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 eat a cookie wait and notify M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Courier New"/>
              </a:rPr>
              <a:t>wait(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e84a09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s par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java.lang.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quires a lock on the object’s monitor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be called from a synchronized method, or from a synchronized segment of code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wait()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() causes the current thread to wait until another thread invokes 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notif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or the </a:t>
            </a:r>
            <a:r>
              <a:rPr b="0" lang="en-US" sz="2000" spc="-1" strike="noStrike">
                <a:solidFill>
                  <a:srgbClr val="e84a09"/>
                </a:solidFill>
                <a:latin typeface="Arial"/>
              </a:rPr>
              <a:t>notifyAll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for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n call for wait(), the thread releases ownership of this monitor and waits until another thread notifies the waiting threads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Courier New"/>
              </a:rPr>
              <a:t>wait(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Metho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simi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yiel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ake the current thread off the execution stack and force it to be re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utomatically put back into the scheduler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notif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called in order to get a thread back into the scheduler’s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sum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(lo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!resourceAvailabl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esour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reads and Process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13809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905120"/>
            <a:ext cx="7848720" cy="3886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28880" y="2209680"/>
            <a:ext cx="144756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624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36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91240" y="2209680"/>
            <a:ext cx="1447920" cy="32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2286000"/>
            <a:ext cx="10666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15080" y="3048120"/>
            <a:ext cx="10666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4648320"/>
            <a:ext cx="10670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roduc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esour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(lo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.notify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noFill/>
          <a:ln w="5724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8a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noFill/>
          <a:ln w="5724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4191120"/>
            <a:ext cx="1905120" cy="1143000"/>
          </a:xfrm>
          <a:prstGeom prst="rect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86040" y="2819520"/>
            <a:ext cx="1219320" cy="13716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57800" y="28353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690057"/>
          </a:solidFill>
          <a:ln w="12600">
            <a:solidFill>
              <a:srgbClr val="69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562360" y="2895120"/>
            <a:ext cx="1143000" cy="12956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83720" y="3429000"/>
            <a:ext cx="467280" cy="368280"/>
          </a:xfrm>
          <a:prstGeom prst="rect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are Threads Good For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intain responsiveness of an application during a long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cancellation of separable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blems are intrinsically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nitor status of some resource (D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PIs and systems demand it: S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638320" y="1904760"/>
            <a:ext cx="1676520" cy="2057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562720" y="2362320"/>
            <a:ext cx="1752480" cy="1676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27400" y="4267080"/>
            <a:ext cx="2323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 button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rd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209680" y="2819520"/>
            <a:ext cx="1371600" cy="1371600"/>
          </a:xfrm>
          <a:prstGeom prst="line">
            <a:avLst/>
          </a:prstGeom>
          <a:ln w="57240">
            <a:solidFill>
              <a:srgbClr val="e84a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1828800"/>
            <a:ext cx="2286000" cy="1371600"/>
          </a:xfrm>
          <a:prstGeom prst="ellipse">
            <a:avLst/>
          </a:prstGeom>
          <a:noFill/>
          <a:ln w="5724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ait/Notify Sequenc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1981080"/>
            <a:ext cx="1828800" cy="1067040"/>
          </a:xfrm>
          <a:prstGeom prst="ellipse">
            <a:avLst/>
          </a:prstGeom>
          <a:solidFill>
            <a:srgbClr val="00378a"/>
          </a:solidFill>
          <a:ln w="12600">
            <a:solidFill>
              <a:srgbClr val="0037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k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4400" y="4191120"/>
            <a:ext cx="1905120" cy="1143000"/>
          </a:xfrm>
          <a:prstGeom prst="rect">
            <a:avLst/>
          </a:prstGeom>
          <a:solidFill>
            <a:srgbClr val="e84a09"/>
          </a:solidFill>
          <a:ln w="12600">
            <a:solidFill>
              <a:srgbClr val="e84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4191120"/>
            <a:ext cx="1905120" cy="1143000"/>
          </a:xfrm>
          <a:prstGeom prst="rect">
            <a:avLst/>
          </a:prstGeom>
          <a:solidFill>
            <a:srgbClr val="00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6280" y="25750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synchronized(lock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360" y="2922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  lock.wa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0" y="2556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produceResourc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41240" y="281952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. synchronized(lock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41680" y="31240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   lock.notif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77240" y="3429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87520" y="362736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Reacquire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08760" y="3967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Return from 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1200" y="32464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.   consumeResour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480" y="3489480"/>
            <a:ext cx="657720" cy="368280"/>
          </a:xfrm>
          <a:prstGeom prst="rect">
            <a:avLst/>
          </a:prstGeom>
          <a:solidFill>
            <a:srgbClr val="690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0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SimpsonsTest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static void main(String[] args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 = new CookyJar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mer homer = new Homer(ja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rge marge = new Marge(ja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w Thread(homer).star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w Thread(marge).star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SimpsonsTes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Homer implements Runnable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Homer(CookyJar ja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.jar =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eat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ar.getCooky("Homer"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read.sleep((int)Math.random() * 1000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catch (InterruptedException ie) {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run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(int i = 1 ; i &lt;= 10 ; i++) ea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Hom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class Marge implements Runnable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kyJar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Marge(CookyJar ja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.jar = j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bake(int cookyNumber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ar.putCooky("Marge", cookyNumber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read.sleep((int)Math.random() * 500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catch (InterruptedException ie) {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ublic void run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(int i = 0 ; i &lt; 10 ; i++) bake(i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Marg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class CookyJar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conten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boolean available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ynchronized void getCooky(String who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!availabl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catch (InterruptedException e) {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Al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.out.println( who + " ate cooky " + content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CookieJa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ynchronized void putCooky(String who, int valu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(availabl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catch (InterruptedException e) {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ts = val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.out.println(who + " put cooky " + contents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 in the jar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Al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Simpsons Scenario: CookieJa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rs and TimerTask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es Timer and TimerTask are part of the java.util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a task after a specifie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a sequence of tasks at constant time interv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cheduling Tim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dule method of a timer can get as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time,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, delay,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486400"/>
            <a:ext cx="220968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When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5486400"/>
            <a:ext cx="19814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What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5486400"/>
            <a:ext cx="2286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4a09"/>
                </a:solidFill>
                <a:latin typeface="Comic Sans MS"/>
              </a:rPr>
              <a:t>At whic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04920" y="1106640"/>
            <a:ext cx="8534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class MinchaTask extends TimerTask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void run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System.out.println(“Time for Mincha!!!!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public static void main(String args[]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Timer timer = new Time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long day = 1000 * 60 * 60 * 24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timer.scheduleAtFixedRate(new MinchaTask(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new Date(), da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mer Examp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ication Thread: main thread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execute an 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VM creates a Thread object whose task is define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rts the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ad executes the statements of the program one by one until the method returns and the thread 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opping Tim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r thread can be stopped in the following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cancel() on th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thread a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all references to the timer after all the TimerTask tasks have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ystem.exit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User and Kernel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management done by user-level threads library (library provides support for thread creation, scheduling: no support from the kernel: user sp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user level thread can block the entire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kernel is single thre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user-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-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99"/>
                </a:solidFill>
                <a:latin typeface="Arial"/>
              </a:rPr>
              <a:t>User and Kernel Thread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and managed by the Kernel ((slower to cre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thread can always be scheduled in case of a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locking system call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OS that support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95/98/NT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e84a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2:25:22Z</dcterms:created>
  <dc:creator>Yaron Kanza</dc:creator>
  <dc:description/>
  <dc:language>en-US</dc:language>
  <cp:lastModifiedBy>Tanel</cp:lastModifiedBy>
  <dcterms:modified xsi:type="dcterms:W3CDTF">2005-12-20T06:25:25Z</dcterms:modified>
  <cp:revision>138</cp:revision>
  <dc:subject/>
  <dc:title>Java Threads</dc:title>
</cp:coreProperties>
</file>